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36200" y="596880"/>
            <a:ext cx="768348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736200" y="4323600"/>
            <a:ext cx="768348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520" y="21078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73620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3520" y="4323600"/>
            <a:ext cx="374940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33432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2080" y="21078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3620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33432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32080" y="4323600"/>
            <a:ext cx="2473920" cy="202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61.xml"/><Relationship Id="rId20" Type="http://schemas.openxmlformats.org/officeDocument/2006/relationships/slideLayout" Target="../slideLayouts/slideLayout62.xml"/><Relationship Id="rId21" Type="http://schemas.openxmlformats.org/officeDocument/2006/relationships/slideLayout" Target="../slideLayouts/slideLayout63.xml"/><Relationship Id="rId22" Type="http://schemas.openxmlformats.org/officeDocument/2006/relationships/slideLayout" Target="../slideLayouts/slideLayout64.xml"/><Relationship Id="rId23" Type="http://schemas.openxmlformats.org/officeDocument/2006/relationships/slideLayout" Target="../slideLayouts/slideLayout65.xml"/><Relationship Id="rId24" Type="http://schemas.openxmlformats.org/officeDocument/2006/relationships/slideLayout" Target="../slideLayouts/slideLayout66.xml"/><Relationship Id="rId25" Type="http://schemas.openxmlformats.org/officeDocument/2006/relationships/slideLayout" Target="../slideLayouts/slideLayout67.xml"/><Relationship Id="rId26" Type="http://schemas.openxmlformats.org/officeDocument/2006/relationships/slideLayout" Target="../slideLayouts/slideLayout68.xml"/><Relationship Id="rId27" Type="http://schemas.openxmlformats.org/officeDocument/2006/relationships/slideLayout" Target="../slideLayouts/slideLayout69.xml"/><Relationship Id="rId28" Type="http://schemas.openxmlformats.org/officeDocument/2006/relationships/slideLayout" Target="../slideLayouts/slideLayout70.xml"/><Relationship Id="rId29" Type="http://schemas.openxmlformats.org/officeDocument/2006/relationships/slideLayout" Target="../slideLayouts/slideLayout71.xml"/><Relationship Id="rId3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2" name="Line 2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" name="Line 3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" name="Line 4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" name="Picture 5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6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8428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0180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93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36200" y="2107800"/>
            <a:ext cx="37083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26208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0220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77544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04832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4572000" y="2265480"/>
            <a:ext cx="0" cy="394020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458" name="Line 5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59" name="Line 6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61" name="Picture 8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9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711320" y="2107800"/>
            <a:ext cx="37083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26208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0220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77544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04832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4572000" y="2265480"/>
            <a:ext cx="0" cy="394020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03" name="Group 10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504" name="Line 5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06" name="Line 7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07" name="Picture 8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9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46" name="Group 7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547" name="Line 2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48" name="Line 3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49" name="Line 4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50" name="Picture 5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6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736200" y="1091880"/>
            <a:ext cx="7683480" cy="468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28332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4324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3844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13364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42920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42920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429200" indent="-283320">
              <a:spcBef>
                <a:spcPts val="33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47" name="Line 2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8" name="Line 3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" name="Line 4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91" name="Line 2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92" name="Line 3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93" name="Line 4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94" name="Picture 5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647640" y="3352680"/>
            <a:ext cx="3962520" cy="164880"/>
            <a:chOff x="647640" y="3352680"/>
            <a:chExt cx="3962520" cy="164880"/>
          </a:xfrm>
        </p:grpSpPr>
        <p:sp>
          <p:nvSpPr>
            <p:cNvPr id="134" name="Line 1"/>
            <p:cNvSpPr/>
            <p:nvPr/>
          </p:nvSpPr>
          <p:spPr>
            <a:xfrm>
              <a:off x="799920" y="3429720"/>
              <a:ext cx="364500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35" name="Picture 2" descr=""/>
            <p:cNvPicPr/>
            <p:nvPr/>
          </p:nvPicPr>
          <p:blipFill>
            <a:blip r:embed="rId3"/>
            <a:stretch/>
          </p:blipFill>
          <p:spPr>
            <a:xfrm>
              <a:off x="4444920" y="3352680"/>
              <a:ext cx="16524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" descr=""/>
            <p:cNvPicPr/>
            <p:nvPr/>
          </p:nvPicPr>
          <p:blipFill>
            <a:blip r:embed="rId4"/>
            <a:stretch/>
          </p:blipFill>
          <p:spPr>
            <a:xfrm>
              <a:off x="647640" y="3352680"/>
              <a:ext cx="16344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560" y="634680"/>
            <a:ext cx="3797280" cy="27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6560" y="3530520"/>
            <a:ext cx="3797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3121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312120" indent="-312120" algn="ctr">
              <a:spcBef>
                <a:spcPts val="7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18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688760" y="3606840"/>
            <a:ext cx="5778360" cy="39384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38160" rIns="38160" tIns="38160" bIns="38160" anchor="ctr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1560" indent="-6156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61560" indent="-61560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61560" indent="-6156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291600" y="2825640"/>
            <a:ext cx="8572680" cy="53640"/>
            <a:chOff x="291600" y="2825640"/>
            <a:chExt cx="8572680" cy="53640"/>
          </a:xfrm>
        </p:grpSpPr>
        <p:sp>
          <p:nvSpPr>
            <p:cNvPr id="177" name="Line 2"/>
            <p:cNvSpPr/>
            <p:nvPr/>
          </p:nvSpPr>
          <p:spPr>
            <a:xfrm flipH="1">
              <a:off x="291600" y="282564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8" name="Line 3"/>
            <p:cNvSpPr/>
            <p:nvPr/>
          </p:nvSpPr>
          <p:spPr>
            <a:xfrm flipH="1">
              <a:off x="291600" y="287928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317520" y="3924360"/>
            <a:ext cx="787320" cy="131760"/>
            <a:chOff x="317520" y="3924360"/>
            <a:chExt cx="787320" cy="131760"/>
          </a:xfrm>
        </p:grpSpPr>
        <p:pic>
          <p:nvPicPr>
            <p:cNvPr id="180" name="Picture 5" descr=""/>
            <p:cNvPicPr/>
            <p:nvPr/>
          </p:nvPicPr>
          <p:blipFill>
            <a:blip r:embed="rId3"/>
            <a:stretch/>
          </p:blipFill>
          <p:spPr>
            <a:xfrm>
              <a:off x="96516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"/>
            <p:cNvPicPr/>
            <p:nvPr/>
          </p:nvPicPr>
          <p:blipFill>
            <a:blip r:embed="rId4"/>
            <a:stretch/>
          </p:blipFill>
          <p:spPr>
            <a:xfrm>
              <a:off x="749160" y="392436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"/>
            <p:cNvPicPr/>
            <p:nvPr/>
          </p:nvPicPr>
          <p:blipFill>
            <a:blip r:embed="rId5"/>
            <a:stretch/>
          </p:blipFill>
          <p:spPr>
            <a:xfrm>
              <a:off x="53352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6"/>
            <a:stretch/>
          </p:blipFill>
          <p:spPr>
            <a:xfrm>
              <a:off x="31752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Group 17"/>
          <p:cNvGrpSpPr/>
          <p:nvPr/>
        </p:nvGrpSpPr>
        <p:grpSpPr>
          <a:xfrm>
            <a:off x="7404120" y="3611520"/>
            <a:ext cx="1453680" cy="387360"/>
            <a:chOff x="7404120" y="3611520"/>
            <a:chExt cx="1453680" cy="387360"/>
          </a:xfrm>
        </p:grpSpPr>
        <p:sp>
          <p:nvSpPr>
            <p:cNvPr id="185" name="Line 10"/>
            <p:cNvSpPr/>
            <p:nvPr/>
          </p:nvSpPr>
          <p:spPr>
            <a:xfrm flipV="1">
              <a:off x="7493040" y="3612960"/>
              <a:ext cx="0" cy="1620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 flipH="1">
              <a:off x="7489440" y="3771720"/>
              <a:ext cx="13683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 flipH="1">
              <a:off x="7489440" y="3825720"/>
              <a:ext cx="13683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 flipV="1">
              <a:off x="7493040" y="3827520"/>
              <a:ext cx="0" cy="171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 flipV="1">
              <a:off x="7454880" y="3612960"/>
              <a:ext cx="0" cy="3765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 flipH="1">
              <a:off x="7416720" y="3611520"/>
              <a:ext cx="76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H="1">
              <a:off x="7404120" y="3997440"/>
              <a:ext cx="76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192" name="Group 25"/>
          <p:cNvGrpSpPr/>
          <p:nvPr/>
        </p:nvGrpSpPr>
        <p:grpSpPr>
          <a:xfrm>
            <a:off x="291600" y="3611520"/>
            <a:ext cx="1448280" cy="387360"/>
            <a:chOff x="291600" y="3611520"/>
            <a:chExt cx="1448280" cy="387360"/>
          </a:xfrm>
        </p:grpSpPr>
        <p:sp>
          <p:nvSpPr>
            <p:cNvPr id="193" name="Line 18"/>
            <p:cNvSpPr/>
            <p:nvPr/>
          </p:nvSpPr>
          <p:spPr>
            <a:xfrm flipH="1">
              <a:off x="291600" y="3762360"/>
              <a:ext cx="135900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 flipH="1">
              <a:off x="291600" y="3816360"/>
              <a:ext cx="135900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V="1">
              <a:off x="1650960" y="3612960"/>
              <a:ext cx="0" cy="1620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 flipV="1">
              <a:off x="1650960" y="3819600"/>
              <a:ext cx="0" cy="17928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 flipV="1">
              <a:off x="1689120" y="3612960"/>
              <a:ext cx="0" cy="3765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 flipH="1">
              <a:off x="1663560" y="3611520"/>
              <a:ext cx="76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 flipH="1">
              <a:off x="1663560" y="3997440"/>
              <a:ext cx="76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1320" y="2882520"/>
            <a:ext cx="8001000" cy="749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grpSp>
        <p:nvGrpSpPr>
          <p:cNvPr id="201" name="Group 31"/>
          <p:cNvGrpSpPr/>
          <p:nvPr/>
        </p:nvGrpSpPr>
        <p:grpSpPr>
          <a:xfrm>
            <a:off x="8064360" y="3924360"/>
            <a:ext cx="774720" cy="131760"/>
            <a:chOff x="8064360" y="3924360"/>
            <a:chExt cx="774720" cy="131760"/>
          </a:xfrm>
        </p:grpSpPr>
        <p:pic>
          <p:nvPicPr>
            <p:cNvPr id="202" name="Picture 27" descr=""/>
            <p:cNvPicPr/>
            <p:nvPr/>
          </p:nvPicPr>
          <p:blipFill>
            <a:blip r:embed="rId7"/>
            <a:stretch/>
          </p:blipFill>
          <p:spPr>
            <a:xfrm>
              <a:off x="869940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8" descr=""/>
            <p:cNvPicPr/>
            <p:nvPr/>
          </p:nvPicPr>
          <p:blipFill>
            <a:blip r:embed="rId8"/>
            <a:stretch/>
          </p:blipFill>
          <p:spPr>
            <a:xfrm>
              <a:off x="8496000" y="392436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9" descr=""/>
            <p:cNvPicPr/>
            <p:nvPr/>
          </p:nvPicPr>
          <p:blipFill>
            <a:blip r:embed="rId9"/>
            <a:stretch/>
          </p:blipFill>
          <p:spPr>
            <a:xfrm>
              <a:off x="828036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30" descr=""/>
            <p:cNvPicPr/>
            <p:nvPr/>
          </p:nvPicPr>
          <p:blipFill>
            <a:blip r:embed="rId10"/>
            <a:stretch/>
          </p:blipFill>
          <p:spPr>
            <a:xfrm>
              <a:off x="8064360" y="392436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91600" y="1057320"/>
            <a:ext cx="1448280" cy="390240"/>
            <a:chOff x="291600" y="1057320"/>
            <a:chExt cx="1448280" cy="390240"/>
          </a:xfrm>
        </p:grpSpPr>
        <p:sp>
          <p:nvSpPr>
            <p:cNvPr id="243" name="Line 1"/>
            <p:cNvSpPr/>
            <p:nvPr/>
          </p:nvSpPr>
          <p:spPr>
            <a:xfrm flipH="1">
              <a:off x="291600" y="1218240"/>
              <a:ext cx="135900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Line 2"/>
            <p:cNvSpPr/>
            <p:nvPr/>
          </p:nvSpPr>
          <p:spPr>
            <a:xfrm flipH="1">
              <a:off x="291600" y="1272240"/>
              <a:ext cx="135900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5" name="Line 3"/>
            <p:cNvSpPr/>
            <p:nvPr/>
          </p:nvSpPr>
          <p:spPr>
            <a:xfrm flipV="1">
              <a:off x="1650960" y="1057320"/>
              <a:ext cx="0" cy="1627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6" name="Line 4"/>
            <p:cNvSpPr/>
            <p:nvPr/>
          </p:nvSpPr>
          <p:spPr>
            <a:xfrm flipV="1">
              <a:off x="1650960" y="1269000"/>
              <a:ext cx="0" cy="1785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 flipV="1">
              <a:off x="1689120" y="1068120"/>
              <a:ext cx="0" cy="377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H="1">
              <a:off x="1650600" y="1065240"/>
              <a:ext cx="889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9" name="Line 7"/>
            <p:cNvSpPr/>
            <p:nvPr/>
          </p:nvSpPr>
          <p:spPr>
            <a:xfrm flipH="1">
              <a:off x="1663560" y="1442880"/>
              <a:ext cx="76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7403760" y="1066680"/>
            <a:ext cx="1453680" cy="387360"/>
            <a:chOff x="7403760" y="1066680"/>
            <a:chExt cx="1453680" cy="387360"/>
          </a:xfrm>
        </p:grpSpPr>
        <p:sp>
          <p:nvSpPr>
            <p:cNvPr id="251" name="Line 9"/>
            <p:cNvSpPr/>
            <p:nvPr/>
          </p:nvSpPr>
          <p:spPr>
            <a:xfrm flipV="1">
              <a:off x="7493040" y="1068120"/>
              <a:ext cx="0" cy="1620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 flipH="1">
              <a:off x="7500600" y="1226880"/>
              <a:ext cx="135684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 flipH="1">
              <a:off x="7500600" y="1268280"/>
              <a:ext cx="135684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 flipV="1">
              <a:off x="7493040" y="1282680"/>
              <a:ext cx="0" cy="171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 flipV="1">
              <a:off x="7454880" y="1068120"/>
              <a:ext cx="0" cy="3765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 flipH="1">
              <a:off x="7416360" y="1066680"/>
              <a:ext cx="889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 flipH="1">
              <a:off x="7403760" y="1441440"/>
              <a:ext cx="889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58" name="Group 19"/>
          <p:cNvGrpSpPr/>
          <p:nvPr/>
        </p:nvGrpSpPr>
        <p:grpSpPr>
          <a:xfrm>
            <a:off x="291600" y="281160"/>
            <a:ext cx="8572680" cy="53280"/>
            <a:chOff x="291600" y="281160"/>
            <a:chExt cx="8572680" cy="53280"/>
          </a:xfrm>
        </p:grpSpPr>
        <p:sp>
          <p:nvSpPr>
            <p:cNvPr id="259" name="Line 17"/>
            <p:cNvSpPr/>
            <p:nvPr/>
          </p:nvSpPr>
          <p:spPr>
            <a:xfrm flipH="1">
              <a:off x="291600" y="28116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H="1">
              <a:off x="291600" y="33444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1" name="Group 24"/>
          <p:cNvGrpSpPr/>
          <p:nvPr/>
        </p:nvGrpSpPr>
        <p:grpSpPr>
          <a:xfrm>
            <a:off x="18364320" y="3073320"/>
            <a:ext cx="787320" cy="131760"/>
            <a:chOff x="18364320" y="3073320"/>
            <a:chExt cx="787320" cy="131760"/>
          </a:xfrm>
        </p:grpSpPr>
        <p:pic>
          <p:nvPicPr>
            <p:cNvPr id="262" name="Picture 20" descr=""/>
            <p:cNvPicPr/>
            <p:nvPr/>
          </p:nvPicPr>
          <p:blipFill>
            <a:blip r:embed="rId3"/>
            <a:stretch/>
          </p:blipFill>
          <p:spPr>
            <a:xfrm>
              <a:off x="1901196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1" descr=""/>
            <p:cNvPicPr/>
            <p:nvPr/>
          </p:nvPicPr>
          <p:blipFill>
            <a:blip r:embed="rId4"/>
            <a:stretch/>
          </p:blipFill>
          <p:spPr>
            <a:xfrm>
              <a:off x="18795960" y="307332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"/>
            <p:cNvPicPr/>
            <p:nvPr/>
          </p:nvPicPr>
          <p:blipFill>
            <a:blip r:embed="rId5"/>
            <a:stretch/>
          </p:blipFill>
          <p:spPr>
            <a:xfrm>
              <a:off x="1858032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3" descr=""/>
            <p:cNvPicPr/>
            <p:nvPr/>
          </p:nvPicPr>
          <p:blipFill>
            <a:blip r:embed="rId6"/>
            <a:stretch/>
          </p:blipFill>
          <p:spPr>
            <a:xfrm>
              <a:off x="1836432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9"/>
          <p:cNvGrpSpPr/>
          <p:nvPr/>
        </p:nvGrpSpPr>
        <p:grpSpPr>
          <a:xfrm>
            <a:off x="736560" y="3073320"/>
            <a:ext cx="774720" cy="131760"/>
            <a:chOff x="736560" y="3073320"/>
            <a:chExt cx="774720" cy="131760"/>
          </a:xfrm>
        </p:grpSpPr>
        <p:pic>
          <p:nvPicPr>
            <p:cNvPr id="267" name="Picture 25" descr=""/>
            <p:cNvPicPr/>
            <p:nvPr/>
          </p:nvPicPr>
          <p:blipFill>
            <a:blip r:embed="rId7"/>
            <a:stretch/>
          </p:blipFill>
          <p:spPr>
            <a:xfrm>
              <a:off x="137160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6" descr=""/>
            <p:cNvPicPr/>
            <p:nvPr/>
          </p:nvPicPr>
          <p:blipFill>
            <a:blip r:embed="rId8"/>
            <a:stretch/>
          </p:blipFill>
          <p:spPr>
            <a:xfrm>
              <a:off x="1168200" y="307332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7" descr=""/>
            <p:cNvPicPr/>
            <p:nvPr/>
          </p:nvPicPr>
          <p:blipFill>
            <a:blip r:embed="rId9"/>
            <a:stretch/>
          </p:blipFill>
          <p:spPr>
            <a:xfrm>
              <a:off x="95256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28" descr=""/>
            <p:cNvPicPr/>
            <p:nvPr/>
          </p:nvPicPr>
          <p:blipFill>
            <a:blip r:embed="rId10"/>
            <a:stretch/>
          </p:blipFill>
          <p:spPr>
            <a:xfrm>
              <a:off x="736560" y="307332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8001000" cy="74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688760" y="1066680"/>
            <a:ext cx="5778360" cy="39384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38160" rIns="38160" tIns="38160" bIns="38160" anchor="ctr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1560" indent="-6156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61560" indent="-61560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61560" indent="-61560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61560" indent="-61560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16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grpSp>
        <p:nvGrpSpPr>
          <p:cNvPr id="273" name="Group 36"/>
          <p:cNvGrpSpPr/>
          <p:nvPr/>
        </p:nvGrpSpPr>
        <p:grpSpPr>
          <a:xfrm>
            <a:off x="317520" y="1346040"/>
            <a:ext cx="787320" cy="131760"/>
            <a:chOff x="317520" y="1346040"/>
            <a:chExt cx="787320" cy="131760"/>
          </a:xfrm>
        </p:grpSpPr>
        <p:pic>
          <p:nvPicPr>
            <p:cNvPr id="274" name="Picture 32" descr=""/>
            <p:cNvPicPr/>
            <p:nvPr/>
          </p:nvPicPr>
          <p:blipFill>
            <a:blip r:embed="rId11"/>
            <a:stretch/>
          </p:blipFill>
          <p:spPr>
            <a:xfrm>
              <a:off x="96516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3" descr=""/>
            <p:cNvPicPr/>
            <p:nvPr/>
          </p:nvPicPr>
          <p:blipFill>
            <a:blip r:embed="rId12"/>
            <a:stretch/>
          </p:blipFill>
          <p:spPr>
            <a:xfrm>
              <a:off x="749160" y="134604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4" descr=""/>
            <p:cNvPicPr/>
            <p:nvPr/>
          </p:nvPicPr>
          <p:blipFill>
            <a:blip r:embed="rId13"/>
            <a:stretch/>
          </p:blipFill>
          <p:spPr>
            <a:xfrm>
              <a:off x="53352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5" descr=""/>
            <p:cNvPicPr/>
            <p:nvPr/>
          </p:nvPicPr>
          <p:blipFill>
            <a:blip r:embed="rId14"/>
            <a:stretch/>
          </p:blipFill>
          <p:spPr>
            <a:xfrm>
              <a:off x="31752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41"/>
          <p:cNvGrpSpPr/>
          <p:nvPr/>
        </p:nvGrpSpPr>
        <p:grpSpPr>
          <a:xfrm>
            <a:off x="8064360" y="1346040"/>
            <a:ext cx="774720" cy="131760"/>
            <a:chOff x="8064360" y="1346040"/>
            <a:chExt cx="774720" cy="131760"/>
          </a:xfrm>
        </p:grpSpPr>
        <p:pic>
          <p:nvPicPr>
            <p:cNvPr id="279" name="Picture 37" descr=""/>
            <p:cNvPicPr/>
            <p:nvPr/>
          </p:nvPicPr>
          <p:blipFill>
            <a:blip r:embed="rId15"/>
            <a:stretch/>
          </p:blipFill>
          <p:spPr>
            <a:xfrm>
              <a:off x="869940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38" descr=""/>
            <p:cNvPicPr/>
            <p:nvPr/>
          </p:nvPicPr>
          <p:blipFill>
            <a:blip r:embed="rId16"/>
            <a:stretch/>
          </p:blipFill>
          <p:spPr>
            <a:xfrm>
              <a:off x="8496000" y="1346040"/>
              <a:ext cx="14004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9" descr=""/>
            <p:cNvPicPr/>
            <p:nvPr/>
          </p:nvPicPr>
          <p:blipFill>
            <a:blip r:embed="rId17"/>
            <a:stretch/>
          </p:blipFill>
          <p:spPr>
            <a:xfrm>
              <a:off x="828036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40" descr=""/>
            <p:cNvPicPr/>
            <p:nvPr/>
          </p:nvPicPr>
          <p:blipFill>
            <a:blip r:embed="rId18"/>
            <a:stretch/>
          </p:blipFill>
          <p:spPr>
            <a:xfrm>
              <a:off x="8064360" y="1346040"/>
              <a:ext cx="139680" cy="1317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9"/>
    <p:sldLayoutId id="2147483715" r:id="rId20"/>
    <p:sldLayoutId id="2147483716" r:id="rId21"/>
    <p:sldLayoutId id="2147483717" r:id="rId22"/>
    <p:sldLayoutId id="2147483718" r:id="rId23"/>
    <p:sldLayoutId id="2147483719" r:id="rId24"/>
    <p:sldLayoutId id="2147483720" r:id="rId25"/>
    <p:sldLayoutId id="2147483721" r:id="rId26"/>
    <p:sldLayoutId id="2147483722" r:id="rId27"/>
    <p:sldLayoutId id="2147483723" r:id="rId28"/>
    <p:sldLayoutId id="2147483724" r:id="rId29"/>
    <p:sldLayoutId id="2147483725" r:id="rId3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3"/>
          <p:cNvGrpSpPr/>
          <p:nvPr/>
        </p:nvGrpSpPr>
        <p:grpSpPr>
          <a:xfrm>
            <a:off x="291600" y="2576520"/>
            <a:ext cx="8572680" cy="53640"/>
            <a:chOff x="291600" y="2576520"/>
            <a:chExt cx="8572680" cy="53640"/>
          </a:xfrm>
        </p:grpSpPr>
        <p:sp>
          <p:nvSpPr>
            <p:cNvPr id="320" name="Line 1"/>
            <p:cNvSpPr/>
            <p:nvPr/>
          </p:nvSpPr>
          <p:spPr>
            <a:xfrm flipH="1">
              <a:off x="291600" y="257652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21" name="Line 2"/>
            <p:cNvSpPr/>
            <p:nvPr/>
          </p:nvSpPr>
          <p:spPr>
            <a:xfrm flipH="1">
              <a:off x="291600" y="263016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22" name="Group 6"/>
          <p:cNvGrpSpPr/>
          <p:nvPr/>
        </p:nvGrpSpPr>
        <p:grpSpPr>
          <a:xfrm>
            <a:off x="291600" y="4210200"/>
            <a:ext cx="8572680" cy="53640"/>
            <a:chOff x="291600" y="4210200"/>
            <a:chExt cx="8572680" cy="53640"/>
          </a:xfrm>
        </p:grpSpPr>
        <p:sp>
          <p:nvSpPr>
            <p:cNvPr id="323" name="Line 4"/>
            <p:cNvSpPr/>
            <p:nvPr/>
          </p:nvSpPr>
          <p:spPr>
            <a:xfrm flipH="1">
              <a:off x="291600" y="421020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 flipH="1">
              <a:off x="291600" y="4263840"/>
              <a:ext cx="85726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2666520"/>
            <a:ext cx="8001000" cy="1536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63" name="Group 7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364" name="Line 2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65" name="Line 3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66" name="Line 4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67" name="Picture 5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8428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0180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93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3684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291960" y="291960"/>
            <a:ext cx="8572680" cy="6286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6200" y="2107800"/>
            <a:ext cx="37083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26208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0220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77544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04832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321560" indent="-26208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0" name="Line 4"/>
          <p:cNvSpPr/>
          <p:nvPr/>
        </p:nvSpPr>
        <p:spPr>
          <a:xfrm>
            <a:off x="4572000" y="2265480"/>
            <a:ext cx="0" cy="394020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419040" y="504360"/>
            <a:ext cx="8305920" cy="1418040"/>
            <a:chOff x="419040" y="504360"/>
            <a:chExt cx="8305920" cy="1418040"/>
          </a:xfrm>
        </p:grpSpPr>
        <p:sp>
          <p:nvSpPr>
            <p:cNvPr id="412" name="Line 5"/>
            <p:cNvSpPr/>
            <p:nvPr/>
          </p:nvSpPr>
          <p:spPr>
            <a:xfrm flipV="1">
              <a:off x="52056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 flipV="1">
              <a:off x="8636040" y="504360"/>
              <a:ext cx="0" cy="12445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14" name="Line 7"/>
            <p:cNvSpPr/>
            <p:nvPr/>
          </p:nvSpPr>
          <p:spPr>
            <a:xfrm flipH="1">
              <a:off x="520200" y="504720"/>
              <a:ext cx="8115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15" name="Picture 8" descr=""/>
            <p:cNvPicPr/>
            <p:nvPr/>
          </p:nvPicPr>
          <p:blipFill>
            <a:blip r:embed="rId3"/>
            <a:stretch/>
          </p:blipFill>
          <p:spPr>
            <a:xfrm>
              <a:off x="853452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9" descr=""/>
            <p:cNvPicPr/>
            <p:nvPr/>
          </p:nvPicPr>
          <p:blipFill>
            <a:blip r:embed="rId4"/>
            <a:stretch/>
          </p:blipFill>
          <p:spPr>
            <a:xfrm>
              <a:off x="419040" y="17319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Bell Ringer</a:t>
            </a: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	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What state is a peninsula?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What state is an island?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"/>
          <p:cNvSpPr/>
          <p:nvPr/>
        </p:nvSpPr>
        <p:spPr>
          <a:xfrm>
            <a:off x="457200" y="604800"/>
            <a:ext cx="826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dcc"/>
                </a:solidFill>
                <a:latin typeface="Arial"/>
                <a:ea typeface="Arial"/>
              </a:rPr>
              <a:t>Antarctica</a:t>
            </a:r>
            <a:endParaRPr b="0" lang="en-US" sz="34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45" name="Rectangle 2"/>
          <p:cNvSpPr/>
          <p:nvPr/>
        </p:nvSpPr>
        <p:spPr>
          <a:xfrm>
            <a:off x="0" y="1536840"/>
            <a:ext cx="918216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d90b00"/>
                </a:solidFill>
                <a:latin typeface="Arial"/>
                <a:ea typeface="Arial"/>
              </a:rPr>
              <a:t>Made</a:t>
            </a:r>
            <a:r>
              <a:rPr b="0" lang="en-US" sz="4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d90b00"/>
                </a:solidFill>
                <a:latin typeface="Arial"/>
                <a:ea typeface="Arial"/>
              </a:rPr>
              <a:t>of 5 regions and 1 island Chain.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Arial"/>
                <a:ea typeface="Arial"/>
              </a:rPr>
              <a:t>The Ocean surrounding Antarctica has been recently renamed as the Southern Ocea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457200" y="509760"/>
            <a:ext cx="826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Arial"/>
                <a:ea typeface="Arial"/>
              </a:rPr>
              <a:t>The Oceans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895320"/>
            <a:ext cx="9182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"/>
                <a:ea typeface="Arial"/>
              </a:rPr>
              <a:t>Pacific Oce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"/>
                <a:ea typeface="Arial"/>
              </a:rPr>
              <a:t>Atlantic Ocean</a:t>
            </a: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"/>
                <a:ea typeface="Arial"/>
              </a:rPr>
              <a:t>Indian Oce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"/>
                <a:ea typeface="Arial"/>
              </a:rPr>
              <a:t>Arctic Oce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"/>
          <p:cNvSpPr/>
          <p:nvPr/>
        </p:nvSpPr>
        <p:spPr>
          <a:xfrm>
            <a:off x="457200" y="604800"/>
            <a:ext cx="826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Arial"/>
                <a:ea typeface="Arial"/>
              </a:rPr>
              <a:t>The Oceans (cont’d)</a:t>
            </a:r>
            <a:endParaRPr b="0" lang="en-US" sz="34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457200" y="1486080"/>
            <a:ext cx="82677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596880"/>
            <a:ext cx="768348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TOC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736200" y="2107800"/>
            <a:ext cx="768348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Pg 7: World Map Free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04920" indent="-304920">
              <a:spcBef>
                <a:spcPts val="22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63636"/>
                </a:solidFill>
                <a:latin typeface="Bodoni SvtyTwo ITC TT-Book"/>
              </a:rPr>
              <a:t>Pg 8: Cont and Oceans c-n</a:t>
            </a:r>
            <a:endParaRPr b="0" lang="en-US" sz="22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87120"/>
            <a:ext cx="8229600" cy="15174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marL="38160" indent="0" algn="ctr">
              <a:lnSpc>
                <a:spcPct val="100000"/>
              </a:lnSpc>
              <a:buNone/>
              <a:tabLst>
                <a:tab algn="l" pos="0"/>
                <a:tab algn="l" pos="812880"/>
                <a:tab algn="l" pos="1536840"/>
                <a:tab algn="l" pos="2260440"/>
                <a:tab algn="l" pos="2984400"/>
                <a:tab algn="l" pos="3708360"/>
                <a:tab algn="l" pos="4432320"/>
                <a:tab algn="l" pos="5156280"/>
                <a:tab algn="l" pos="5880240"/>
                <a:tab algn="l" pos="6603840"/>
                <a:tab algn="l" pos="7327800"/>
                <a:tab algn="l" pos="8051760"/>
                <a:tab algn="l" pos="8318520"/>
                <a:tab algn="l" pos="9194760"/>
                <a:tab algn="l" pos="10096560"/>
              </a:tabLst>
            </a:pPr>
            <a:r>
              <a:rPr b="0" lang="en-US" sz="4600" spc="-1" strike="noStrike">
                <a:solidFill>
                  <a:srgbClr val="363636"/>
                </a:solidFill>
                <a:latin typeface="Bodoni SvtyTwo ITC TT-Bold"/>
              </a:rPr>
              <a:t>World Continents and Oceans</a:t>
            </a:r>
            <a:endParaRPr b="0" lang="en-US" sz="4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117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"/>
          <p:cNvSpPr/>
          <p:nvPr/>
        </p:nvSpPr>
        <p:spPr>
          <a:xfrm>
            <a:off x="457200" y="509760"/>
            <a:ext cx="826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Arial"/>
                <a:ea typeface="Arial"/>
              </a:rPr>
              <a:t>North America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1371600"/>
            <a:ext cx="9182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9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Arial"/>
                <a:ea typeface="Arial"/>
              </a:rPr>
              <a:t>Made up of 4 countries: Canada ,US, Mexico,Greenland</a:t>
            </a:r>
            <a:endParaRPr b="0" lang="en-US" sz="36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>
            <a:off x="457200" y="509760"/>
            <a:ext cx="826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Arial"/>
                <a:ea typeface="Arial"/>
              </a:rPr>
              <a:t>South America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-74520" y="1816200"/>
            <a:ext cx="933300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2712"/>
                </a:solidFill>
                <a:latin typeface="Arial"/>
                <a:ea typeface="Arial"/>
              </a:rPr>
              <a:t>Made up of 12 countries.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63636"/>
                </a:solidFill>
                <a:latin typeface="Arial"/>
                <a:ea typeface="Arial"/>
              </a:rPr>
              <a:t>The Pacific Ocean borders South America to the West, and the Atlantic to the East.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457200" y="604800"/>
            <a:ext cx="826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dcc"/>
                </a:solidFill>
                <a:latin typeface="Arial"/>
                <a:ea typeface="Arial"/>
              </a:rPr>
              <a:t>Europe</a:t>
            </a:r>
            <a:endParaRPr b="0" lang="en-US" sz="34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0" y="1473120"/>
            <a:ext cx="887724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  <a:ea typeface="Arial"/>
              </a:rPr>
              <a:t>Made up of 48 countries. 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The Atlantic Ocean is Europe’s western border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The Arctic Ocean is north of Europe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"/>
          <p:cNvSpPr/>
          <p:nvPr/>
        </p:nvSpPr>
        <p:spPr>
          <a:xfrm>
            <a:off x="444600" y="560520"/>
            <a:ext cx="826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Arial"/>
                <a:ea typeface="Arial"/>
              </a:rPr>
              <a:t>Asia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457200" y="1536840"/>
            <a:ext cx="826776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Asia is made up of numerous countries, th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d90b00"/>
                </a:solidFill>
                <a:latin typeface="Arial"/>
                <a:ea typeface="Arial"/>
              </a:rPr>
              <a:t>main countries are Russia, China, and India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The Pacific Ocean lies to the east, while the Indian Ocean falls on the southwest. 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"/>
          <p:cNvSpPr/>
          <p:nvPr/>
        </p:nvSpPr>
        <p:spPr>
          <a:xfrm>
            <a:off x="457200" y="604800"/>
            <a:ext cx="8267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dcc"/>
                </a:solidFill>
                <a:latin typeface="Arial"/>
                <a:ea typeface="Arial"/>
              </a:rPr>
              <a:t>Africa</a:t>
            </a:r>
            <a:endParaRPr b="0" lang="en-US" sz="34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0" y="1612800"/>
            <a:ext cx="9258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  <a:ea typeface="Arial"/>
              </a:rPr>
              <a:t>Made up of 53 countries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Africa is surrounded by the Atlantic Ocean to the west and the Indian Ocean to the East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457200" y="509760"/>
            <a:ext cx="8267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8001000"/>
                <a:tab algn="l" pos="826776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0082"/>
                </a:solidFill>
                <a:latin typeface="Arial"/>
                <a:ea typeface="Arial"/>
              </a:rPr>
              <a:t>Australia</a:t>
            </a:r>
            <a:endParaRPr b="0" lang="en-US" sz="4800" spc="-1" strike="noStrike">
              <a:solidFill>
                <a:srgbClr val="363636"/>
              </a:solidFill>
              <a:latin typeface="Gill Sans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457200" y="1536840"/>
            <a:ext cx="8724960" cy="40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  <a:ea typeface="Arial"/>
              </a:rPr>
              <a:t>Mainland along with Tasmania and Islands throughout the Pacific Ocean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  <a:p>
            <a:pPr marL="471600" indent="-324000">
              <a:lnSpc>
                <a:spcPct val="100000"/>
              </a:lnSpc>
              <a:spcBef>
                <a:spcPts val="1701"/>
              </a:spcBef>
              <a:buClr>
                <a:srgbClr val="ffcc99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3695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3636"/>
                </a:solidFill>
                <a:latin typeface="Arial"/>
                <a:ea typeface="Arial"/>
              </a:rPr>
              <a:t>The Indian Ocean borders the west and south, while the Pacific is on the east.</a:t>
            </a:r>
            <a:endParaRPr b="0" lang="en-US" sz="44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sc</dc:creator>
  <dc:description/>
  <cp:keywords/>
  <dc:language>en-US</dc:language>
  <cp:lastModifiedBy>TylerDaughtry</cp:lastModifiedBy>
  <dcterms:modified xsi:type="dcterms:W3CDTF">2013-09-05T16:44:48Z</dcterms:modified>
  <cp:revision>3</cp:revision>
  <dc:subject/>
  <dc:title>World Continents and Oceans</dc:title>
</cp:coreProperties>
</file>